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814-F1FC-445F-B534-DA50870B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B83-50FE-4539-89D1-90EC9688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1D0-78B6-491E-B649-3D4B65BD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4EB-36FE-4BF0-BBDF-4A98FFCC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33C-425E-4125-8972-3C4264AD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D50-F08B-47ED-88AA-7BF2E046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CBD-21BC-4341-871F-BC3597E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EBE-8827-4352-B1FC-FE374CC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C33-F585-4F66-93CE-C63A5F5F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8BF-7B92-4A1C-94E9-3F4FB6D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19F-36F9-46FD-978D-098D93A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BDD-3B31-444D-A4DA-2C7795FA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8A1DA093-7F2D-4505-B254-1EFC5DFD72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341360" y="1798560"/>
            <a:ext cx="6278760" cy="277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477120" y="4572000"/>
            <a:ext cx="175248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C:\Users\Administrator\Desktop\写作业.jpg"/>
          <p:cNvPicPr/>
          <p:nvPr/>
        </p:nvPicPr>
        <p:blipFill>
          <a:blip r:embed="rId2"/>
          <a:stretch/>
        </p:blipFill>
        <p:spPr>
          <a:xfrm>
            <a:off x="5943600" y="4572000"/>
            <a:ext cx="2666880" cy="2095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53880" y="189000"/>
            <a:ext cx="7309080" cy="828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1371600"/>
            <a:ext cx="8077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Arial"/>
              <a:buAutoNum type="arabicPeriod"/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Ask the students to read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sentences in grou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ff0000"/>
              </a:buClr>
              <a:buFont typeface="Arial"/>
              <a:buAutoNum type="arabicPeriod" startAt="2"/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Ask the students to do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ract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5680" y="2475000"/>
            <a:ext cx="668196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92160" y="122400"/>
            <a:ext cx="9272520" cy="110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:\Users\Administrator\Desktop\玩电脑.jpg"/>
          <p:cNvPicPr/>
          <p:nvPr/>
        </p:nvPicPr>
        <p:blipFill>
          <a:blip r:embed="rId3"/>
          <a:stretch/>
        </p:blipFill>
        <p:spPr>
          <a:xfrm>
            <a:off x="6012000" y="1905120"/>
            <a:ext cx="2465280" cy="240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:\Users\Administrator\Desktop\看电视.jpg"/>
          <p:cNvPicPr/>
          <p:nvPr/>
        </p:nvPicPr>
        <p:blipFill>
          <a:blip r:embed="rId4"/>
          <a:stretch/>
        </p:blipFill>
        <p:spPr>
          <a:xfrm>
            <a:off x="533520" y="1371600"/>
            <a:ext cx="2925720" cy="243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5920" y="4414680"/>
            <a:ext cx="2805120" cy="183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809880" y="1833480"/>
            <a:ext cx="2052720" cy="159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405400" y="4572000"/>
            <a:ext cx="259560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6480" y="79200"/>
            <a:ext cx="915696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C:\Users\Administrator\Desktop\看电视.jpg"/>
          <p:cNvPicPr/>
          <p:nvPr/>
        </p:nvPicPr>
        <p:blipFill>
          <a:blip r:embed="rId3"/>
          <a:stretch/>
        </p:blipFill>
        <p:spPr>
          <a:xfrm>
            <a:off x="6019920" y="4343400"/>
            <a:ext cx="26193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:\Users\Administrator\Desktop\写作业.jpg"/>
          <p:cNvPicPr/>
          <p:nvPr/>
        </p:nvPicPr>
        <p:blipFill>
          <a:blip r:embed="rId4"/>
          <a:stretch/>
        </p:blipFill>
        <p:spPr>
          <a:xfrm>
            <a:off x="1752480" y="3962520"/>
            <a:ext cx="2667240" cy="2095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43120" y="1676520"/>
            <a:ext cx="2128680" cy="171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405400" y="1833480"/>
            <a:ext cx="2673360" cy="17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6840" y="324000"/>
            <a:ext cx="8650440" cy="90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74720" y="1944720"/>
            <a:ext cx="6973920" cy="384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53320" y="5257800"/>
            <a:ext cx="153360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6840" y="324000"/>
            <a:ext cx="8650440" cy="90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:\Users\Administrator\Desktop\洗脸.jpg"/>
          <p:cNvPicPr/>
          <p:nvPr/>
        </p:nvPicPr>
        <p:blipFill>
          <a:blip r:embed="rId3"/>
          <a:stretch/>
        </p:blipFill>
        <p:spPr>
          <a:xfrm>
            <a:off x="4952880" y="2057400"/>
            <a:ext cx="2438640" cy="2095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C:\Users\Administrator\Desktop\洗手.jpg"/>
          <p:cNvPicPr/>
          <p:nvPr/>
        </p:nvPicPr>
        <p:blipFill>
          <a:blip r:embed="rId4"/>
          <a:stretch/>
        </p:blipFill>
        <p:spPr>
          <a:xfrm>
            <a:off x="1143000" y="198108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5105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ash my han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5105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ash my f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6840" y="324000"/>
            <a:ext cx="8650440" cy="90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C:\Users\Administrator\Desktop\梳头.jpg"/>
          <p:cNvPicPr/>
          <p:nvPr/>
        </p:nvPicPr>
        <p:blipFill>
          <a:blip r:embed="rId3"/>
          <a:stretch/>
        </p:blipFill>
        <p:spPr>
          <a:xfrm>
            <a:off x="838080" y="1676520"/>
            <a:ext cx="3575160" cy="2819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5105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rush my 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5105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rush my te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4120" y="1828800"/>
            <a:ext cx="26305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6840" y="324000"/>
            <a:ext cx="8650440" cy="907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C:\Users\Administrator\Desktop\叠被子.jpg"/>
          <p:cNvPicPr/>
          <p:nvPr/>
        </p:nvPicPr>
        <p:blipFill>
          <a:blip r:embed="rId3"/>
          <a:stretch/>
        </p:blipFill>
        <p:spPr>
          <a:xfrm>
            <a:off x="1143000" y="17524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51814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ake my 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:\Users\Administrator\Desktop\穿.jpg"/>
          <p:cNvPicPr/>
          <p:nvPr/>
        </p:nvPicPr>
        <p:blipFill>
          <a:blip r:embed="rId4"/>
          <a:stretch/>
        </p:blipFill>
        <p:spPr>
          <a:xfrm>
            <a:off x="4648320" y="1447920"/>
            <a:ext cx="414648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19720" y="5181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ut on my clot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45720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eat breakf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44956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go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1528920"/>
            <a:ext cx="2963880" cy="21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805280" y="1828800"/>
            <a:ext cx="2890800" cy="21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80" y="189000"/>
            <a:ext cx="7972560" cy="828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167652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A:  Hi, 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:  Hi,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A: What do you do in the mo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: I 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C:\Users\Administrator\Desktop\写作业.jpg"/>
          <p:cNvPicPr/>
          <p:nvPr/>
        </p:nvPicPr>
        <p:blipFill>
          <a:blip r:embed="rId3"/>
          <a:stretch/>
        </p:blipFill>
        <p:spPr>
          <a:xfrm>
            <a:off x="6019920" y="1219320"/>
            <a:ext cx="2666880" cy="20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7:08:10Z</dcterms:created>
  <dc:creator/>
  <dc:description/>
  <dc:language>en-US</dc:language>
  <cp:lastModifiedBy/>
  <dcterms:modified xsi:type="dcterms:W3CDTF">2017-09-14T12:14:03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